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968640" y="0"/>
            <a:ext cx="303552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82648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968640" y="8826480"/>
            <a:ext cx="303552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316219-7C6C-4C95-A548-5FCFF71D7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at process would 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C64B-B8D9-462A-B8D3-CC4D61DA2F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99ED-9CE6-45FA-B09E-3F452D8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A373-28A3-4353-A32E-A52942D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3840-3F78-483C-A4FE-DE56EF99D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3274-A1C8-4941-808F-61547A4E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29A8-2E54-453D-8DD7-95E5B09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D3DA-C854-409C-B4C7-E79690E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866D-7477-40A7-B846-84A347A5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BC18-7112-4E66-9759-27C1E68D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0854-949C-4C48-878A-92E31198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8CC2-87BB-4577-846E-31F53C3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7E78-789A-45A2-A51E-4AFC83A0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C25-252B-4645-A76F-542F88D0DFD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99520" y="355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al Abnormali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79204" b="15894"/>
          <a:stretch/>
        </p:blipFill>
        <p:spPr>
          <a:xfrm>
            <a:off x="7121520" y="685800"/>
            <a:ext cx="103176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5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84B-8C6B-4413-A215-3B2BD38CAE8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 test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2402" r="0" b="9000"/>
          <a:stretch/>
        </p:blipFill>
        <p:spPr>
          <a:xfrm>
            <a:off x="2057400" y="3160800"/>
            <a:ext cx="5562720" cy="3697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mniocentesis in 2nd trimes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mple of embryo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ain &amp; photograph chromoso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lysis of karyotyp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A869-4F4A-4715-8B35-3B42E71E928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10128" t="2252" r="13500" b="0"/>
          <a:stretch/>
        </p:blipFill>
        <p:spPr>
          <a:xfrm>
            <a:off x="5562720" y="3459240"/>
            <a:ext cx="3543120" cy="33987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x chrom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uman development more tolerant of wrong numbers in sex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t produces a variety of distinct conditions 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XY = Klinefelter’s syndrome male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XX = Trisomy X fema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YY = Jacob’s syndrome ma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O   = Turner syndrome fema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linefelter’s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XY ma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e in every 2000 live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ave male sex organs, but are steri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eminine characteristic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rmal intelligenc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251160" cy="4927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1C2-7BA9-4CB5-91BC-5BCF910A1A9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Klinefelter’s syndrom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587920" cy="5435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105520" y="5334120"/>
            <a:ext cx="2514600" cy="12952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D383-29B8-4707-89EE-953B368D504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173240"/>
            <a:ext cx="7174080" cy="5379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Klinefelter’s syndrom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5410080"/>
            <a:ext cx="2057400" cy="1295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5D02-75F9-42E6-B69D-4EFE3115B17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’s syndrome ma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YY Mal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1000 live male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tra Y chromos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what taller than ave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re activ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light learning disabili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layed emotional maturit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rmal intelligence, normal sexual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06D-5CCF-4FFE-9AD5-21594F48E96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74080" cy="5380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181480" y="5334120"/>
            <a:ext cx="2514600" cy="12952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XYY Ma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3B5-7005-49AC-BE1A-0512D6E0B96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isomy 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X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every 2000 live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 healthy fema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2832120" cy="1900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3657600" cy="2128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77D5-7DEC-4FE7-AF42-5B9ACFBE532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urner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somy X or X0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every 5000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aried degree of effec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ebbed neck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ort st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mmature sterile female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8102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urner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F28-4311-45F0-AE19-9E758392E84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al abnormalit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correct number of chrom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nondisjun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romosomes don’t separate properly during meiosi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eakage of chromoso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le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uplic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ver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loc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A98-C315-4F5C-A8E0-43D09E65B46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anges in chromosome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0760" y="1712880"/>
            <a:ext cx="9093240" cy="4535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B7CF-712A-4AC4-93C6-C988C52C50C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C4E-3BE0-4668-BB1C-DDE672A75DB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disjunc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blems with meiotic spindle cause errors in daughter cell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etrad chromosomes do not separate properly during Meiosis 1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ister chromatids fail to separate during Meiosis 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oo many or too few chromoso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4191120"/>
            <a:ext cx="2666880" cy="2666880"/>
            <a:chOff x="762120" y="4191120"/>
            <a:chExt cx="2666880" cy="2666880"/>
          </a:xfrm>
        </p:grpSpPr>
        <p:sp>
          <p:nvSpPr>
            <p:cNvPr id="114" name=""/>
            <p:cNvSpPr/>
            <p:nvPr/>
          </p:nvSpPr>
          <p:spPr>
            <a:xfrm>
              <a:off x="762120" y="4191120"/>
              <a:ext cx="2666880" cy="26668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606680" y="4419720"/>
              <a:ext cx="450360" cy="914400"/>
              <a:chOff x="1606680" y="4419720"/>
              <a:chExt cx="450360" cy="914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668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83456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063880" y="4419720"/>
              <a:ext cx="450360" cy="914400"/>
              <a:chOff x="2063880" y="4419720"/>
              <a:chExt cx="4503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206388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29176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676520" y="5562720"/>
              <a:ext cx="380160" cy="457200"/>
              <a:chOff x="1676520" y="5562720"/>
              <a:chExt cx="38016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86876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057400" y="5562720"/>
              <a:ext cx="380160" cy="457200"/>
              <a:chOff x="2057400" y="5562720"/>
              <a:chExt cx="38016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205740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24964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752480" y="6248520"/>
              <a:ext cx="304200" cy="380880"/>
              <a:chOff x="1752480" y="6248520"/>
              <a:chExt cx="304200" cy="3808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752480" y="624852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1924200" y="6248520"/>
                <a:ext cx="13212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057400" y="6248520"/>
              <a:ext cx="304200" cy="380880"/>
              <a:chOff x="2057400" y="6248520"/>
              <a:chExt cx="304200" cy="38088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057400" y="624852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2229120" y="6248520"/>
                <a:ext cx="13212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4495680" y="3886200"/>
            <a:ext cx="1447920" cy="2971800"/>
            <a:chOff x="4495680" y="3886200"/>
            <a:chExt cx="1447920" cy="2971800"/>
          </a:xfrm>
        </p:grpSpPr>
        <p:grpSp>
          <p:nvGrpSpPr>
            <p:cNvPr id="134" name=""/>
            <p:cNvGrpSpPr/>
            <p:nvPr/>
          </p:nvGrpSpPr>
          <p:grpSpPr>
            <a:xfrm>
              <a:off x="4495680" y="3886200"/>
              <a:ext cx="1447920" cy="1447920"/>
              <a:chOff x="4495680" y="3886200"/>
              <a:chExt cx="1447920" cy="14479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95680" y="388620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800600" y="4114800"/>
                <a:ext cx="450360" cy="914400"/>
                <a:chOff x="4800600" y="4114800"/>
                <a:chExt cx="450360" cy="9144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80060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02848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334120" y="4191120"/>
                <a:ext cx="380160" cy="457200"/>
                <a:chOff x="5334120" y="4191120"/>
                <a:chExt cx="38016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334120" y="41911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526360" y="41911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257800" y="4800600"/>
                <a:ext cx="304200" cy="380880"/>
                <a:chOff x="5257800" y="4800600"/>
                <a:chExt cx="30420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 flipV="1">
                  <a:off x="5257800" y="480060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5429520" y="480060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4495680" y="5410080"/>
              <a:ext cx="1447920" cy="1447920"/>
              <a:chOff x="4495680" y="5410080"/>
              <a:chExt cx="1447920" cy="1447920"/>
            </a:xfrm>
          </p:grpSpPr>
          <p:sp>
            <p:nvSpPr>
              <p:cNvPr id="146" name=""/>
              <p:cNvSpPr/>
              <p:nvPr/>
            </p:nvSpPr>
            <p:spPr>
              <a:xfrm>
                <a:off x="4495680" y="541008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724280" y="5715000"/>
                <a:ext cx="450360" cy="914400"/>
                <a:chOff x="4724280" y="5715000"/>
                <a:chExt cx="450360" cy="914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72428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495216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181480" y="6248520"/>
                <a:ext cx="380520" cy="457200"/>
                <a:chOff x="5181480" y="6248520"/>
                <a:chExt cx="380520" cy="457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8148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537408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334120" y="5715000"/>
                <a:ext cx="304200" cy="380880"/>
                <a:chOff x="5334120" y="5715000"/>
                <a:chExt cx="304200" cy="38088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5334120" y="571500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5505840" y="571500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6" name=""/>
          <p:cNvSpPr/>
          <p:nvPr/>
        </p:nvSpPr>
        <p:spPr>
          <a:xfrm>
            <a:off x="2057400" y="4038480"/>
            <a:ext cx="0" cy="304812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495680" y="3886200"/>
            <a:ext cx="1447920" cy="2971800"/>
            <a:chOff x="4495680" y="3886200"/>
            <a:chExt cx="1447920" cy="2971800"/>
          </a:xfrm>
        </p:grpSpPr>
        <p:grpSp>
          <p:nvGrpSpPr>
            <p:cNvPr id="158" name=""/>
            <p:cNvGrpSpPr/>
            <p:nvPr/>
          </p:nvGrpSpPr>
          <p:grpSpPr>
            <a:xfrm>
              <a:off x="4495680" y="3886200"/>
              <a:ext cx="1447920" cy="1447920"/>
              <a:chOff x="4495680" y="3886200"/>
              <a:chExt cx="1447920" cy="1447920"/>
            </a:xfrm>
          </p:grpSpPr>
          <p:sp>
            <p:nvSpPr>
              <p:cNvPr id="159" name=""/>
              <p:cNvSpPr/>
              <p:nvPr/>
            </p:nvSpPr>
            <p:spPr>
              <a:xfrm>
                <a:off x="4495680" y="388620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800600" y="4114800"/>
                <a:ext cx="450360" cy="914400"/>
                <a:chOff x="4800600" y="4114800"/>
                <a:chExt cx="450360" cy="914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0060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502848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257800" y="4343400"/>
                <a:ext cx="380160" cy="457200"/>
                <a:chOff x="5257800" y="4343400"/>
                <a:chExt cx="380160" cy="457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257800" y="434340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5450040" y="434340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4495680" y="5410080"/>
              <a:ext cx="1447920" cy="1447920"/>
              <a:chOff x="4495680" y="5410080"/>
              <a:chExt cx="1447920" cy="1447920"/>
            </a:xfrm>
          </p:grpSpPr>
          <p:sp>
            <p:nvSpPr>
              <p:cNvPr id="167" name=""/>
              <p:cNvSpPr/>
              <p:nvPr/>
            </p:nvSpPr>
            <p:spPr>
              <a:xfrm>
                <a:off x="4495680" y="541008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724280" y="5715000"/>
                <a:ext cx="450360" cy="914400"/>
                <a:chOff x="4724280" y="5715000"/>
                <a:chExt cx="450360" cy="9144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72428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495216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105520" y="6248520"/>
                <a:ext cx="380160" cy="457200"/>
                <a:chOff x="5105520" y="6248520"/>
                <a:chExt cx="380160" cy="457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10552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29776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257800" y="5562720"/>
                <a:ext cx="304200" cy="380880"/>
                <a:chOff x="5257800" y="5562720"/>
                <a:chExt cx="304200" cy="380880"/>
              </a:xfrm>
            </p:grpSpPr>
            <p:sp>
              <p:nvSpPr>
                <p:cNvPr id="175" name=""/>
                <p:cNvSpPr/>
                <p:nvPr/>
              </p:nvSpPr>
              <p:spPr>
                <a:xfrm flipV="1">
                  <a:off x="5257800" y="556272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429520" y="556272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486400" y="6019920"/>
                <a:ext cx="304200" cy="380880"/>
                <a:chOff x="5486400" y="6019920"/>
                <a:chExt cx="30420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5486400" y="601992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5658120" y="601992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" name=""/>
          <p:cNvGrpSpPr/>
          <p:nvPr/>
        </p:nvGrpSpPr>
        <p:grpSpPr>
          <a:xfrm>
            <a:off x="6858000" y="3886200"/>
            <a:ext cx="1447920" cy="2971800"/>
            <a:chOff x="6858000" y="3886200"/>
            <a:chExt cx="1447920" cy="2971800"/>
          </a:xfrm>
        </p:grpSpPr>
        <p:grpSp>
          <p:nvGrpSpPr>
            <p:cNvPr id="181" name=""/>
            <p:cNvGrpSpPr/>
            <p:nvPr/>
          </p:nvGrpSpPr>
          <p:grpSpPr>
            <a:xfrm>
              <a:off x="6858000" y="3886200"/>
              <a:ext cx="1447920" cy="1447920"/>
              <a:chOff x="6858000" y="3886200"/>
              <a:chExt cx="1447920" cy="1447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858000" y="388620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15200" y="41911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889040" y="41911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7696080" y="4723560"/>
                <a:ext cx="131760" cy="38124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858000" y="5410080"/>
              <a:ext cx="1447920" cy="1447920"/>
              <a:chOff x="6858000" y="5410080"/>
              <a:chExt cx="1447920" cy="14479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58000" y="541008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238880" y="5715000"/>
                <a:ext cx="22248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737480" y="6248520"/>
                <a:ext cx="18720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696080" y="571500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5812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76520" y="3962520"/>
            <a:ext cx="380880" cy="2971800"/>
            <a:chOff x="1676520" y="3962520"/>
            <a:chExt cx="380880" cy="2971800"/>
          </a:xfrm>
        </p:grpSpPr>
        <p:sp>
          <p:nvSpPr>
            <p:cNvPr id="194" name=""/>
            <p:cNvSpPr/>
            <p:nvPr/>
          </p:nvSpPr>
          <p:spPr>
            <a:xfrm>
              <a:off x="2057400" y="3962520"/>
              <a:ext cx="0" cy="2057400"/>
            </a:xfrm>
            <a:prstGeom prst="line">
              <a:avLst/>
            </a:prstGeom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6096240"/>
              <a:ext cx="0" cy="838080"/>
            </a:xfrm>
            <a:prstGeom prst="line">
              <a:avLst/>
            </a:prstGeom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676520" y="6096240"/>
              <a:ext cx="380880" cy="0"/>
            </a:xfrm>
            <a:prstGeom prst="line">
              <a:avLst/>
            </a:prstGeom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58000" y="3886200"/>
            <a:ext cx="1447920" cy="2971800"/>
            <a:chOff x="6858000" y="3886200"/>
            <a:chExt cx="1447920" cy="2971800"/>
          </a:xfrm>
        </p:grpSpPr>
        <p:grpSp>
          <p:nvGrpSpPr>
            <p:cNvPr id="198" name=""/>
            <p:cNvGrpSpPr/>
            <p:nvPr/>
          </p:nvGrpSpPr>
          <p:grpSpPr>
            <a:xfrm>
              <a:off x="6858000" y="3886200"/>
              <a:ext cx="1447920" cy="2971800"/>
              <a:chOff x="6858000" y="3886200"/>
              <a:chExt cx="1447920" cy="2971800"/>
            </a:xfrm>
          </p:grpSpPr>
          <p:sp>
            <p:nvSpPr>
              <p:cNvPr id="199" name=""/>
              <p:cNvSpPr/>
              <p:nvPr/>
            </p:nvSpPr>
            <p:spPr>
              <a:xfrm>
                <a:off x="6858000" y="388620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58000" y="541008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15200" y="4191120"/>
              <a:ext cx="22248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90120" y="419112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571500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0120" y="624852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925040" y="594360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7543800" y="548640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812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0040" y="426636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538120" y="4266360"/>
            <a:ext cx="351360" cy="2181600"/>
            <a:chOff x="8538120" y="4266360"/>
            <a:chExt cx="351360" cy="2181600"/>
          </a:xfrm>
        </p:grpSpPr>
        <p:sp>
          <p:nvSpPr>
            <p:cNvPr id="211" name=""/>
            <p:cNvSpPr/>
            <p:nvPr/>
          </p:nvSpPr>
          <p:spPr>
            <a:xfrm>
              <a:off x="8538120" y="42663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8120" y="601884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378640" y="4266000"/>
            <a:ext cx="669960" cy="2181960"/>
            <a:chOff x="8378640" y="4266000"/>
            <a:chExt cx="669960" cy="2181960"/>
          </a:xfrm>
        </p:grpSpPr>
        <p:sp>
          <p:nvSpPr>
            <p:cNvPr id="214" name=""/>
            <p:cNvSpPr/>
            <p:nvPr/>
          </p:nvSpPr>
          <p:spPr>
            <a:xfrm>
              <a:off x="8415360" y="4266000"/>
              <a:ext cx="599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00"/>
                  </a:solidFill>
                  <a:latin typeface="Arial"/>
                </a:rPr>
                <a:t>n-1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78640" y="60188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00"/>
                  </a:solidFill>
                  <a:latin typeface="Arial"/>
                </a:rPr>
                <a:t>n+1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534520" y="6507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410-1E5D-476B-BFC3-B09ADC49985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teration of chromosome numb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5445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A46-E94F-4F46-A934-1A60DBFB0D0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disjunc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by has wrong chromosome numb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trisom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s have 3 copies of a chromosom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monosom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s have only 1 copy of a chromosom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562720" y="3809880"/>
            <a:ext cx="1447560" cy="1447560"/>
            <a:chOff x="5562720" y="3809880"/>
            <a:chExt cx="1447560" cy="1447560"/>
          </a:xfrm>
        </p:grpSpPr>
        <p:sp>
          <p:nvSpPr>
            <p:cNvPr id="223" name=""/>
            <p:cNvSpPr/>
            <p:nvPr/>
          </p:nvSpPr>
          <p:spPr>
            <a:xfrm>
              <a:off x="5562720" y="3809880"/>
              <a:ext cx="1447560" cy="1447560"/>
            </a:xfrm>
            <a:prstGeom prst="ellipse">
              <a:avLst/>
            </a:prstGeom>
            <a:solidFill>
              <a:srgbClr val="eba045"/>
            </a:solidFill>
            <a:ln w="9360">
              <a:solidFill>
                <a:srgbClr val="eba0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3600" y="411444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23760" y="4647960"/>
              <a:ext cx="18756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629400" y="434232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6248520" y="388512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133720" y="3886200"/>
            <a:ext cx="1447560" cy="1447920"/>
            <a:chOff x="2133720" y="3886200"/>
            <a:chExt cx="1447560" cy="1447920"/>
          </a:xfrm>
        </p:grpSpPr>
        <p:sp>
          <p:nvSpPr>
            <p:cNvPr id="229" name=""/>
            <p:cNvSpPr/>
            <p:nvPr/>
          </p:nvSpPr>
          <p:spPr>
            <a:xfrm>
              <a:off x="2133720" y="3886200"/>
              <a:ext cx="1447560" cy="14479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9112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165480" y="419112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2971800" y="472464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2920" y="3733920"/>
            <a:ext cx="1447560" cy="1447560"/>
            <a:chOff x="7162920" y="3733920"/>
            <a:chExt cx="1447560" cy="1447560"/>
          </a:xfrm>
        </p:grpSpPr>
        <p:sp>
          <p:nvSpPr>
            <p:cNvPr id="234" name=""/>
            <p:cNvSpPr/>
            <p:nvPr/>
          </p:nvSpPr>
          <p:spPr>
            <a:xfrm>
              <a:off x="7162920" y="3733920"/>
              <a:ext cx="1447560" cy="144756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3800" y="4038480"/>
              <a:ext cx="222120" cy="91404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42400" y="4571640"/>
              <a:ext cx="187200" cy="45684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001000" y="4037760"/>
              <a:ext cx="131760" cy="38052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886200"/>
            <a:ext cx="1447560" cy="1447920"/>
            <a:chOff x="533520" y="3886200"/>
            <a:chExt cx="1447560" cy="1447920"/>
          </a:xfrm>
        </p:grpSpPr>
        <p:sp>
          <p:nvSpPr>
            <p:cNvPr id="239" name=""/>
            <p:cNvSpPr/>
            <p:nvPr/>
          </p:nvSpPr>
          <p:spPr>
            <a:xfrm>
              <a:off x="533520" y="3886200"/>
              <a:ext cx="1447560" cy="1447920"/>
            </a:xfrm>
            <a:prstGeom prst="ellipse">
              <a:avLst/>
            </a:prstGeom>
            <a:solidFill>
              <a:srgbClr val="eba045"/>
            </a:solidFill>
            <a:ln w="9360">
              <a:solidFill>
                <a:srgbClr val="eba0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371600" y="426744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419112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400800" y="5410080"/>
            <a:ext cx="1447920" cy="1447920"/>
            <a:chOff x="6400800" y="5410080"/>
            <a:chExt cx="1447920" cy="1447920"/>
          </a:xfrm>
        </p:grpSpPr>
        <p:sp>
          <p:nvSpPr>
            <p:cNvPr id="243" name=""/>
            <p:cNvSpPr/>
            <p:nvPr/>
          </p:nvSpPr>
          <p:spPr>
            <a:xfrm>
              <a:off x="6400800" y="5410080"/>
              <a:ext cx="1447920" cy="1447920"/>
            </a:xfrm>
            <a:prstGeom prst="ellipse">
              <a:avLst/>
            </a:prstGeom>
            <a:solidFill>
              <a:srgbClr val="bde15d"/>
            </a:solidFill>
            <a:ln w="9360">
              <a:solidFill>
                <a:srgbClr val="bde1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556272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571500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solidFill>
              <a:srgbClr val="bde15d"/>
            </a:solidFill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466760" y="5715000"/>
              <a:ext cx="18756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solidFill>
              <a:srgbClr val="bde15d"/>
            </a:solidFill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391520" y="632376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solidFill>
              <a:srgbClr val="bde15d"/>
            </a:solidFill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238160" y="5638680"/>
              <a:ext cx="18756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7238880" y="632376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7086600" y="640080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285520" y="6048720"/>
            <a:ext cx="118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isomy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2n+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16560" y="6048720"/>
            <a:ext cx="167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monosomy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2n-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1790640" y="499104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95280" y="5410080"/>
            <a:ext cx="1447920" cy="1447920"/>
            <a:chOff x="1295280" y="5410080"/>
            <a:chExt cx="1447920" cy="1447920"/>
          </a:xfrm>
        </p:grpSpPr>
        <p:sp>
          <p:nvSpPr>
            <p:cNvPr id="255" name=""/>
            <p:cNvSpPr/>
            <p:nvPr/>
          </p:nvSpPr>
          <p:spPr>
            <a:xfrm>
              <a:off x="1295280" y="5410080"/>
              <a:ext cx="1447920" cy="1447920"/>
            </a:xfrm>
            <a:prstGeom prst="ellipse">
              <a:avLst/>
            </a:prstGeom>
            <a:solidFill>
              <a:srgbClr val="bde15d"/>
            </a:solidFill>
            <a:ln w="9360">
              <a:solidFill>
                <a:srgbClr val="bde1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523880" y="5562720"/>
              <a:ext cx="1025640" cy="1218960"/>
              <a:chOff x="1523880" y="5562720"/>
              <a:chExt cx="1025640" cy="1218960"/>
            </a:xfrm>
          </p:grpSpPr>
          <p:sp>
            <p:nvSpPr>
              <p:cNvPr id="257" name=""/>
              <p:cNvSpPr/>
              <p:nvPr/>
            </p:nvSpPr>
            <p:spPr>
              <a:xfrm>
                <a:off x="1752480" y="5562720"/>
                <a:ext cx="22248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23880" y="5715000"/>
                <a:ext cx="22248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solidFill>
                <a:srgbClr val="bde15d"/>
              </a:solidFill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362320" y="5715000"/>
                <a:ext cx="18720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solidFill>
                <a:srgbClr val="bde15d"/>
              </a:solidFill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2133720" y="640080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solidFill>
                <a:srgbClr val="bde15d"/>
              </a:solidFill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33720" y="5638680"/>
                <a:ext cx="18720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rot="5400000">
            <a:off x="6896160" y="499104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164-066A-4978-BD85-724B688E756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uman chromosome disorder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gh frequency 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embryos are spontaneously abort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terations are too disastro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velopmental problems result from biochemical imbalanc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rtain conditions are tolerat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pset the balance less =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urviv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aracteristic set of symptoms = </a:t>
            </a:r>
            <a:br>
              <a:rPr sz="2800"/>
            </a:b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yndr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AC5-AAA4-452A-BFAF-959E466A0F6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wn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9000" t="0" r="10800" b="2162"/>
          <a:stretch/>
        </p:blipFill>
        <p:spPr>
          <a:xfrm>
            <a:off x="6400800" y="380880"/>
            <a:ext cx="2697120" cy="4114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12000" b="0"/>
          <a:stretch/>
        </p:blipFill>
        <p:spPr>
          <a:xfrm>
            <a:off x="6172200" y="4518000"/>
            <a:ext cx="2852640" cy="2238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307200" y="3505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somy 21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copies of chromosome 2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700 children born in U.S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romosome 21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mallest human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ut still severe effec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equency of Dow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drome correlat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the age of the m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isomy 21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12000" r="0" b="22504"/>
          <a:stretch/>
        </p:blipFill>
        <p:spPr>
          <a:xfrm>
            <a:off x="685800" y="1712880"/>
            <a:ext cx="8305920" cy="4078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4E2-15AD-4D39-A1CE-3EDC93CAE74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wn syndrome &amp; age of moth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62120" y="1295280"/>
          <a:ext cx="4343400" cy="5442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Mother’s ag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Incidence of Down Syndrom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Under 3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&lt;1 in 10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9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4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3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23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8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0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6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</a:tbl>
          </a:graphicData>
        </a:graphic>
      </p:graphicFrame>
      <p:pic>
        <p:nvPicPr>
          <p:cNvPr id="277" name="" descr=""/>
          <p:cNvPicPr/>
          <p:nvPr/>
        </p:nvPicPr>
        <p:blipFill>
          <a:blip r:embed="rId1"/>
          <a:srcRect l="0" t="2252" r="0" b="0"/>
          <a:stretch/>
        </p:blipFill>
        <p:spPr>
          <a:xfrm>
            <a:off x="5208480" y="2362320"/>
            <a:ext cx="3783240" cy="2773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DD2-1EBF-4C5A-87D7-2587E57F037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Education WD Interactive</cp:keywords>
  <dc:language>en-US</dc:language>
  <cp:lastModifiedBy> </cp:lastModifiedBy>
  <cp:lastPrinted>2006-02-01T11:34:33Z</cp:lastPrinted>
  <dcterms:modified xsi:type="dcterms:W3CDTF">2006-12-12T15:54:18Z</dcterms:modified>
  <cp:revision>279</cp:revision>
  <dc:subject>AP &amp; Regents Biology</dc:subject>
  <dc:title>AP &amp; Regents Biology</dc:title>
</cp:coreProperties>
</file>